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BA3B-6ABC-42D0-B538-94A10F1D0A2E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DFE7-677C-4B2F-9CEC-F5C6F04304B8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plementa l’estremo prod del connettore pipe, cui si attaccano i driver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52F8-5710-4763-9FA7-B5E57F0D423A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prima catch è messa per ricordareche si serializ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3BB3-0054-43AC-95AA-CC43BC6E6F18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plementa l’estremo consdel connettore pipe, cui si attaccano i driver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8B59-FCEE-4ECC-9B59-A55ED58F930D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prima catch è messa per ricordare che si serializ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16F7-68D3-48DE-9D74-412051535C0B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ocediamo bottom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40ED-2664-41B6-B5F0-0F26D38BAFAC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parametro pp (produce port) del costruttore individua il porto di origine dello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cast serve perché la in.get restituisce un oggetto. Pessima gestione degli err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92B0-38A1-4713-8B27-C1CAC3876ACF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parametri individuano il porto di destinazione dello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cast non  serve perché la out.get accetta oggetti (serializzabili!). Pessima gestione degli err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F7AD-891B-4421-9FC0-19133CEF6DD7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285B-F97B-4BBD-BC2C-309F5F6DBA12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5D53-B5BF-43C9-8E59-31E873D40F06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85B3-6BD6-4F19-98DD-A721EF2F6B03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DB9F-9499-4503-9EEC-022FBD347391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02D8-514F-439C-9C03-F49076F9D5BA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C24A-6093-4F67-81E1-E6A1B0E399E7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terfacciaUtente Questa componente riceve dal Cliente l'elemento da alternare e si compo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me un produttore per la componente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plit                   Questa è la componente che opera lo smist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ToLow                Questa è la componente che opera la trasformazione to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Merge                Questa è la componente che opera la fus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ToUp                  Questa è la componente che opera la trasformazione t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 rispetto del requisito non funzionale, si introducono due componenti distinte per 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era trasforma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er ulteriore flessibilità, anche per lo smistamento e la fusione degli elementi sono state introdo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ue componenti dist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8F9B-447B-4956-927F-384F8C87606B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6C1B-6CDE-409F-AED0-2E0330708BF4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VC_Alternatore     Questa vista mostra la struttura C&amp;C del sistema Alternatore. Si tratta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 caso particolare di un pattern ben noto della computazione parallel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VS_Alternatore    Questo package contiene le viste strutturali dell'architettura del sist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VS_Pipe             Questo package contiene la vista strutturale della realizzazione Java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nnettore &lt;&lt;pipe&gt;&gt; con il supporto di socket alla comunic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VC_Pipe            Questo package contiene la vista comportamentale di un connet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&lt;pipe&gt;&gt; tra un generico produttore e un generico consu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BC7F-8EB7-492C-AF8E-86FE55F9BE40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esta vista mostra il generico contesto di una &lt;&lt;pipe&gt;&gt;: una componente produce, l'altra consu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connettore bufferizza i prodotti in attesa della richiesta da parte del consumatore, che, a sua vol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esta bloccato in mancanza di prodotti da utilizz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EF62-D0C6-4683-8271-61E1F66DEE68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40E-0855-4A8A-9741-B21F2275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519-0232-4193-82F8-96C1270A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D4DD-12F6-4F45-8F9D-A6FA1312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813-C83E-4C4F-A4DB-806ABDC9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FD3C-A105-48DE-8BA0-0B847546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05812-9ECA-4D68-B707-987B560F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03C5-6E7F-4BD5-B822-179F7752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EB50F-CF89-45FB-85F4-57F0202A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4B69-CF66-4313-92D2-5A28489C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24DD1-ADBE-4BDF-92CA-CC4CC459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4D960-2275-4082-8502-F25D795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68802-237E-4FC9-9FC4-A8FFFA87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3094-9711-4D92-A31D-A5503A16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1BC6-4ED3-4C58-A908-257B799F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047-883C-450C-8004-D557FC38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BE8D-149D-4936-9FFA-F31A3005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62CB-1914-4368-86E1-F89817ED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DB7B-5D78-4069-B460-7CBA4538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852FE-6445-4833-96F3-DA93263A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19225-BAEF-499A-840A-7F53DA0C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A5BF-425B-4996-A75A-FF7C37D9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E04E0-A446-40DE-9D96-103B3B3F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8C93-48AB-44BC-AC21-45CF9E36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8CD10-3817-482E-8406-C5111FA9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84F4-955A-4A9D-9110-674C171B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2FA6-5175-471D-BC69-8C4741EC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EBC10-7E0C-49E2-868D-0486A6D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4BB8C-D593-4D00-86CC-6E567C74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5F9F9-3C63-491F-8D9E-58F24A4A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497C7-54EC-41E0-8624-3E6D75E7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E89A49-6B78-4AF3-890B-F27DDA07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F90E8-D5A9-4A42-A9B1-49934D70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FFC34D-1E5F-435F-B318-35868485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58135E-6A09-4193-A8E8-A0BBD1C6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658169-9A6C-4E78-BF24-F6621B2C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430C-3126-45CE-B5E9-9D472477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53E00A-CF3E-4182-8E19-53F86855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E35A5F-D7DB-4A4C-8CEF-D06E1FCA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8F7B18-A762-4BD7-9F6C-310B558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1EC4B7-982D-4EEE-AD75-ED6D12DA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DBC840-CA1B-421C-AD78-57372A01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856B4D-988C-44FE-B92E-D62EC519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D24C21-F646-44DF-B43C-6F83FA2C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80E0-D5CA-48FD-ADB0-9A8E18F7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16B0-A057-4421-AE21-C9AEBCC7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D9B4-6C71-4FFD-99CF-CA9FFEAB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B6527F-2687-411C-9139-A88FE8853B8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09170C-0322-4252-88FB-BA267E57599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E8D8D7-CB7D-4B66-8A09-B36396B4667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2BA179-4846-4526-A309-894EE7DC5BC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D37F83-E597-472D-BA9F-8107046086B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327716-ECD4-432C-BCE9-4AE37359E80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65F5F2-049D-423B-AECA-8906CD77D9B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BF7BE4-3873-426D-A85F-4296AD2F5B1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FA3C21-35D9-4BB3-BF47-77C80A79D9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0F27-6901-4216-B50F-737CC5C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351654-D6D1-47F6-9A17-CC9BA90A432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31AB65-7D35-4586-B3C4-3295E9E4A69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04B897-2B8E-4FC0-8B2B-C7DD51151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171-21A5-4CA3-A009-AF14FB1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A829-87B8-4F4F-A8E5-707064F1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AD8D-9637-4EAB-BF1A-5A87F56C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18D6-481F-45DE-A711-6791B5B4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AB48-0667-4D1E-A48F-429921F9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5CE5-AA90-463A-B2F2-E4EA054D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6F1-E4D4-41CA-B889-AEFE13FB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1B78-2D29-41CE-9185-2DEB9A01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B4DC-7646-4241-A46F-BA46BF63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9A7F2-D8B0-4EE4-828A-33C11762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2FD-C095-4A24-ADD2-79BBD8F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35FD-1B90-4483-A5C0-78A79F25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1A98-F4E9-41F4-BA9C-5DD1F60A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36CF-C7CD-431B-B152-A7825448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8C7A-7C6B-44D8-A2BD-83CEA99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9E57-2E62-4ABE-A4ED-0DCC1EA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519C-E5F1-47F9-AFC2-2C1D71DE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3EB2-B8E5-45E8-83F7-57A2B2D6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A36E-4EC1-4948-B0A7-71F0160A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B847-3962-4489-9435-AE9BE5FF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FA4-3836-44B7-A7AD-0D660770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003-64E8-42E4-A93C-5E302DF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F72-7FE9-4DA7-9AA9-2A5FB2FB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642-50CF-44EB-9D1F-F0082145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6E9-412F-4C35-9210-7BEC6473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476760"/>
            <a:ext cx="231120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60560" y="6476760"/>
            <a:ext cx="59673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98EA-1183-4A21-B42D-89768BCF7A63}" type="slidenum"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tangolo 8"/>
          <p:cNvSpPr/>
          <p:nvPr/>
        </p:nvSpPr>
        <p:spPr>
          <a:xfrm>
            <a:off x="3094200" y="0"/>
            <a:ext cx="48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ttangolo 10"/>
          <p:cNvSpPr/>
          <p:nvPr/>
        </p:nvSpPr>
        <p:spPr>
          <a:xfrm>
            <a:off x="3094200" y="0"/>
            <a:ext cx="48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0"/>
          </p:nvPr>
        </p:nvSpPr>
        <p:spPr>
          <a:xfrm>
            <a:off x="177840" y="1170000"/>
            <a:ext cx="273528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11"/>
          </p:nvPr>
        </p:nvSpPr>
        <p:spPr>
          <a:xfrm>
            <a:off x="3289320" y="1170000"/>
            <a:ext cx="562608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cbcbc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12"/>
          </p:nvPr>
        </p:nvSpPr>
        <p:spPr>
          <a:xfrm>
            <a:off x="9034200" y="1170000"/>
            <a:ext cx="79524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C9A4-E88D-4442-8B0E-AD7CE294AC9B}" type="slidenum"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ttangolo 8"/>
          <p:cNvSpPr/>
          <p:nvPr/>
        </p:nvSpPr>
        <p:spPr>
          <a:xfrm>
            <a:off x="7148520" y="0"/>
            <a:ext cx="49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ttangolo 10"/>
          <p:cNvSpPr/>
          <p:nvPr/>
        </p:nvSpPr>
        <p:spPr>
          <a:xfrm>
            <a:off x="7201080" y="0"/>
            <a:ext cx="27241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13"/>
          </p:nvPr>
        </p:nvSpPr>
        <p:spPr>
          <a:xfrm>
            <a:off x="495360" y="6476760"/>
            <a:ext cx="231120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14"/>
          </p:nvPr>
        </p:nvSpPr>
        <p:spPr>
          <a:xfrm>
            <a:off x="2860200" y="63770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15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AC05-A7F2-4017-BA77-5349BCFB06FE}" type="slidenum"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16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965F-59B3-40CC-B387-FF5F43B2B5C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dt" idx="17"/>
          </p:nvPr>
        </p:nvSpPr>
        <p:spPr>
          <a:xfrm>
            <a:off x="495360" y="6476760"/>
            <a:ext cx="231120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18"/>
          </p:nvPr>
        </p:nvSpPr>
        <p:spPr>
          <a:xfrm>
            <a:off x="2860560" y="6476760"/>
            <a:ext cx="59673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19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3A2F-4FA5-445C-AC7B-A22914274EE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ttangolo 8"/>
          <p:cNvSpPr/>
          <p:nvPr/>
        </p:nvSpPr>
        <p:spPr>
          <a:xfrm>
            <a:off x="0" y="0"/>
            <a:ext cx="990612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ttangolo 10"/>
          <p:cNvSpPr/>
          <p:nvPr/>
        </p:nvSpPr>
        <p:spPr>
          <a:xfrm>
            <a:off x="0" y="5127480"/>
            <a:ext cx="9906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95360" y="6476760"/>
            <a:ext cx="231120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60560" y="6476760"/>
            <a:ext cx="59673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173A-9861-4811-A310-7DB13D94E48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8"/>
          <p:cNvSpPr/>
          <p:nvPr/>
        </p:nvSpPr>
        <p:spPr>
          <a:xfrm>
            <a:off x="0" y="0"/>
            <a:ext cx="990612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10"/>
          <p:cNvSpPr/>
          <p:nvPr/>
        </p:nvSpPr>
        <p:spPr>
          <a:xfrm>
            <a:off x="0" y="2602080"/>
            <a:ext cx="990612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95360" y="6476760"/>
            <a:ext cx="231120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2860560" y="6476760"/>
            <a:ext cx="59673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19B6-2FAD-4807-A6B6-0C550FE0C18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ttangolo 8"/>
          <p:cNvSpPr/>
          <p:nvPr/>
        </p:nvSpPr>
        <p:spPr>
          <a:xfrm>
            <a:off x="3094200" y="0"/>
            <a:ext cx="4896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ttangolo 10"/>
          <p:cNvSpPr/>
          <p:nvPr/>
        </p:nvSpPr>
        <p:spPr>
          <a:xfrm>
            <a:off x="3094200" y="0"/>
            <a:ext cx="4896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Rectangle 4" descr=""/>
          <p:cNvPicPr/>
          <p:nvPr/>
        </p:nvPicPr>
        <p:blipFill>
          <a:blip r:embed="rId1"/>
          <a:stretch/>
        </p:blipFill>
        <p:spPr>
          <a:xfrm>
            <a:off x="706320" y="1268280"/>
            <a:ext cx="8748720" cy="326088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60520" y="5157360"/>
            <a:ext cx="875016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rbel"/>
              </a:rPr>
              <a:t>Vincenzo Gervasi, Laura Semini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rbel"/>
              </a:rPr>
              <a:t>Ingegneria del Softwar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rbel"/>
              </a:rPr>
              <a:t>Dipartimento di Informatic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rbel"/>
              </a:rPr>
              <a:t>Università di Pis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grpSp>
        <p:nvGrpSpPr>
          <p:cNvPr id="688" name="Group 5"/>
          <p:cNvGrpSpPr/>
          <p:nvPr/>
        </p:nvGrpSpPr>
        <p:grpSpPr>
          <a:xfrm>
            <a:off x="1136520" y="1628640"/>
            <a:ext cx="7632720" cy="4608720"/>
            <a:chOff x="1136520" y="1628640"/>
            <a:chExt cx="7632720" cy="4608720"/>
          </a:xfrm>
        </p:grpSpPr>
        <p:pic>
          <p:nvPicPr>
            <p:cNvPr id="689" name="Picture 8" descr=""/>
            <p:cNvPicPr/>
            <p:nvPr/>
          </p:nvPicPr>
          <p:blipFill>
            <a:blip r:embed="rId2"/>
            <a:stretch/>
          </p:blipFill>
          <p:spPr>
            <a:xfrm>
              <a:off x="1386000" y="1892160"/>
              <a:ext cx="180828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9" descr=""/>
            <p:cNvPicPr/>
            <p:nvPr/>
          </p:nvPicPr>
          <p:blipFill>
            <a:blip r:embed="rId3"/>
            <a:stretch/>
          </p:blipFill>
          <p:spPr>
            <a:xfrm>
              <a:off x="1136520" y="4618800"/>
              <a:ext cx="2099880" cy="153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10" descr=""/>
            <p:cNvPicPr/>
            <p:nvPr/>
          </p:nvPicPr>
          <p:blipFill>
            <a:blip r:embed="rId4"/>
            <a:stretch/>
          </p:blipFill>
          <p:spPr>
            <a:xfrm>
              <a:off x="3635640" y="1628640"/>
              <a:ext cx="3850200" cy="18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11" descr=""/>
            <p:cNvPicPr/>
            <p:nvPr/>
          </p:nvPicPr>
          <p:blipFill>
            <a:blip r:embed="rId5"/>
            <a:stretch/>
          </p:blipFill>
          <p:spPr>
            <a:xfrm>
              <a:off x="3635640" y="4348080"/>
              <a:ext cx="5133600" cy="188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Title 1" descr=""/>
          <p:cNvPicPr/>
          <p:nvPr/>
        </p:nvPicPr>
        <p:blipFill>
          <a:blip r:embed="rId1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 txBox="1"/>
          <p:nvPr/>
        </p:nvSpPr>
        <p:spPr>
          <a:xfrm>
            <a:off x="83808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Utilizziam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rbel"/>
              </a:rPr>
              <a:t>socket</a:t>
            </a: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 da java.n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rbel"/>
              </a:rPr>
              <a:t>stream</a:t>
            </a: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 da java.i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Lo stream realizza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la coda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il blocco in assenza di dati in inpu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Usiamo </a:t>
            </a:r>
            <a:r>
              <a:rPr b="0" i="1" lang="it-IT" sz="3200" spc="-1" strike="noStrike">
                <a:solidFill>
                  <a:srgbClr val="000000"/>
                </a:solidFill>
                <a:latin typeface="Corbel"/>
              </a:rPr>
              <a:t>Object</a:t>
            </a: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 Strea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serializza gli oggetti di tipo </a:t>
            </a:r>
            <a:r>
              <a:rPr b="0" i="1" lang="it-IT" sz="2800" spc="-1" strike="noStrike">
                <a:solidFill>
                  <a:srgbClr val="000000"/>
                </a:solidFill>
                <a:latin typeface="Corbel"/>
              </a:rPr>
              <a:t>Serializ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ff67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e.g., Str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" descr=""/>
          <p:cNvPicPr/>
          <p:nvPr/>
        </p:nvPicPr>
        <p:blipFill>
          <a:blip r:embed="rId2"/>
          <a:stretch/>
        </p:blipFill>
        <p:spPr>
          <a:xfrm>
            <a:off x="631800" y="1557360"/>
            <a:ext cx="8629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" descr=""/>
          <p:cNvPicPr/>
          <p:nvPr/>
        </p:nvPicPr>
        <p:blipFill>
          <a:blip r:embed="rId2"/>
          <a:stretch/>
        </p:blipFill>
        <p:spPr>
          <a:xfrm>
            <a:off x="563400" y="1700280"/>
            <a:ext cx="87789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"/>
          <p:cNvPicPr/>
          <p:nvPr/>
        </p:nvPicPr>
        <p:blipFill>
          <a:blip r:embed="rId2"/>
          <a:stretch/>
        </p:blipFill>
        <p:spPr>
          <a:xfrm>
            <a:off x="598320" y="1863720"/>
            <a:ext cx="86760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" descr=""/>
          <p:cNvPicPr/>
          <p:nvPr/>
        </p:nvPicPr>
        <p:blipFill>
          <a:blip r:embed="rId2"/>
          <a:stretch/>
        </p:blipFill>
        <p:spPr>
          <a:xfrm>
            <a:off x="704880" y="1782720"/>
            <a:ext cx="85122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2" descr=""/>
          <p:cNvPicPr/>
          <p:nvPr/>
        </p:nvPicPr>
        <p:blipFill>
          <a:blip r:embed="rId2"/>
          <a:stretch/>
        </p:blipFill>
        <p:spPr>
          <a:xfrm>
            <a:off x="546120" y="2060640"/>
            <a:ext cx="8623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2" descr=""/>
          <p:cNvPicPr/>
          <p:nvPr/>
        </p:nvPicPr>
        <p:blipFill>
          <a:blip r:embed="rId2"/>
          <a:stretch/>
        </p:blipFill>
        <p:spPr>
          <a:xfrm>
            <a:off x="1424160" y="1576440"/>
            <a:ext cx="6841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"/>
          <p:cNvPicPr/>
          <p:nvPr/>
        </p:nvPicPr>
        <p:blipFill>
          <a:blip r:embed="rId2"/>
          <a:stretch/>
        </p:blipFill>
        <p:spPr>
          <a:xfrm>
            <a:off x="560520" y="1573200"/>
            <a:ext cx="881532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" descr=""/>
          <p:cNvPicPr/>
          <p:nvPr/>
        </p:nvPicPr>
        <p:blipFill>
          <a:blip r:embed="rId2"/>
          <a:stretch/>
        </p:blipFill>
        <p:spPr>
          <a:xfrm>
            <a:off x="776160" y="1577880"/>
            <a:ext cx="820908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Titolo 1" descr=""/>
          <p:cNvPicPr/>
          <p:nvPr/>
        </p:nvPicPr>
        <p:blipFill>
          <a:blip r:embed="rId1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L’esempio è puramente simbolico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Nessun progettista sano di mente definirebbe un’architettura così complessa per un requisito così bana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Il requisito è un’astrazione. Una possibile istanza è la risoluzione di un problema di load balancing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Della soluzione ci interessano solo gli aspetti di comunicazione, non la funzionalità realizzata dalle componenti, che per semplicità assumiamo la più banale possibi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" descr=""/>
          <p:cNvPicPr/>
          <p:nvPr/>
        </p:nvPicPr>
        <p:blipFill>
          <a:blip r:embed="rId2"/>
          <a:stretch/>
        </p:blipFill>
        <p:spPr>
          <a:xfrm>
            <a:off x="1584360" y="1881360"/>
            <a:ext cx="63928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Title 1" descr=""/>
          <p:cNvPicPr/>
          <p:nvPr/>
        </p:nvPicPr>
        <p:blipFill>
          <a:blip r:embed="rId1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920880" y="321300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un oggetto ParmsDB è una tabell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costruita dalla riga di comando che attiva il mai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&lt;switch, valore&gt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per split, i dati sui port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get(sw) restituisce il valore associato a s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171360" y="1700280"/>
            <a:ext cx="95630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" descr=""/>
          <p:cNvPicPr/>
          <p:nvPr/>
        </p:nvPicPr>
        <p:blipFill>
          <a:blip r:embed="rId2"/>
          <a:stretch/>
        </p:blipFill>
        <p:spPr>
          <a:xfrm>
            <a:off x="128520" y="1916280"/>
            <a:ext cx="96202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" descr=""/>
          <p:cNvPicPr/>
          <p:nvPr/>
        </p:nvPicPr>
        <p:blipFill>
          <a:blip r:embed="rId2"/>
          <a:stretch/>
        </p:blipFill>
        <p:spPr>
          <a:xfrm>
            <a:off x="396720" y="1700280"/>
            <a:ext cx="9128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704880" y="1557360"/>
            <a:ext cx="8335800" cy="4608360"/>
          </a:xfrm>
          <a:prstGeom prst="rect">
            <a:avLst/>
          </a:prstGeom>
          <a:ln w="0">
            <a:noFill/>
          </a:ln>
        </p:spPr>
      </p:pic>
      <p:pic>
        <p:nvPicPr>
          <p:cNvPr id="721" name="Title 1" descr=""/>
          <p:cNvPicPr/>
          <p:nvPr/>
        </p:nvPicPr>
        <p:blipFill>
          <a:blip r:embed="rId2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838080" y="606060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rbel"/>
              </a:rPr>
              <a:t>grigio: modifiche al comportamento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rbel"/>
              </a:rPr>
              <a:t>bordo spesso: diversa implementazione pipe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488880" y="1628640"/>
            <a:ext cx="8961480" cy="4464360"/>
          </a:xfrm>
          <a:prstGeom prst="rect">
            <a:avLst/>
          </a:prstGeom>
          <a:ln w="0">
            <a:noFill/>
          </a:ln>
        </p:spPr>
      </p:pic>
      <p:pic>
        <p:nvPicPr>
          <p:cNvPr id="724" name="Title 6" descr=""/>
          <p:cNvPicPr/>
          <p:nvPr/>
        </p:nvPicPr>
        <p:blipFill>
          <a:blip r:embed="rId2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838080" y="616572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grigio: responsabilità azienda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Title 1" descr=""/>
          <p:cNvPicPr/>
          <p:nvPr/>
        </p:nvPicPr>
        <p:blipFill>
          <a:blip r:embed="rId1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415800" y="167328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Uno script di costruzione globa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lancia le componenti sulle macchine scel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560520" y="3075120"/>
            <a:ext cx="88930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Immagine 5" descr=""/>
          <p:cNvPicPr/>
          <p:nvPr/>
        </p:nvPicPr>
        <p:blipFill>
          <a:blip r:embed="rId1"/>
          <a:srcRect l="0" t="4735" r="0" b="0"/>
          <a:stretch/>
        </p:blipFill>
        <p:spPr>
          <a:xfrm>
            <a:off x="2643120" y="1557360"/>
            <a:ext cx="3975120" cy="1871640"/>
          </a:xfrm>
          <a:prstGeom prst="rect">
            <a:avLst/>
          </a:prstGeom>
          <a:ln w="0">
            <a:noFill/>
          </a:ln>
        </p:spPr>
      </p:pic>
      <p:pic>
        <p:nvPicPr>
          <p:cNvPr id="669" name="Title 1" descr=""/>
          <p:cNvPicPr/>
          <p:nvPr/>
        </p:nvPicPr>
        <p:blipFill>
          <a:blip r:embed="rId2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" descr=""/>
          <p:cNvPicPr/>
          <p:nvPr/>
        </p:nvPicPr>
        <p:blipFill>
          <a:blip r:embed="rId3"/>
          <a:stretch/>
        </p:blipFill>
        <p:spPr>
          <a:xfrm>
            <a:off x="560520" y="3287880"/>
            <a:ext cx="84247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"/>
          <p:cNvPicPr/>
          <p:nvPr/>
        </p:nvPicPr>
        <p:blipFill>
          <a:blip r:embed="rId2"/>
          <a:stretch/>
        </p:blipFill>
        <p:spPr>
          <a:xfrm>
            <a:off x="490680" y="1700280"/>
            <a:ext cx="899928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"/>
          <p:cNvPicPr/>
          <p:nvPr/>
        </p:nvPicPr>
        <p:blipFill>
          <a:blip r:embed="rId2"/>
          <a:stretch/>
        </p:blipFill>
        <p:spPr>
          <a:xfrm>
            <a:off x="1281240" y="1498680"/>
            <a:ext cx="7488000" cy="41162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"/>
          <p:cNvPicPr/>
          <p:nvPr/>
        </p:nvPicPr>
        <p:blipFill>
          <a:blip r:embed="rId3"/>
          <a:stretch/>
        </p:blipFill>
        <p:spPr>
          <a:xfrm>
            <a:off x="2936880" y="5551560"/>
            <a:ext cx="422892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Title 1" descr=""/>
          <p:cNvPicPr/>
          <p:nvPr/>
        </p:nvPicPr>
        <p:blipFill>
          <a:blip r:embed="rId1"/>
          <a:stretch/>
        </p:blipFill>
        <p:spPr>
          <a:xfrm>
            <a:off x="560520" y="274680"/>
            <a:ext cx="8686800" cy="11462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" descr=""/>
          <p:cNvPicPr/>
          <p:nvPr/>
        </p:nvPicPr>
        <p:blipFill>
          <a:blip r:embed="rId2"/>
          <a:stretch/>
        </p:blipFill>
        <p:spPr>
          <a:xfrm>
            <a:off x="631800" y="1490760"/>
            <a:ext cx="85694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" descr=""/>
          <p:cNvPicPr/>
          <p:nvPr/>
        </p:nvPicPr>
        <p:blipFill>
          <a:blip r:embed="rId2"/>
          <a:stretch/>
        </p:blipFill>
        <p:spPr>
          <a:xfrm>
            <a:off x="776160" y="1512720"/>
            <a:ext cx="8353440" cy="2637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"/>
          <p:cNvPicPr/>
          <p:nvPr/>
        </p:nvPicPr>
        <p:blipFill>
          <a:blip r:embed="rId3"/>
          <a:stretch/>
        </p:blipFill>
        <p:spPr>
          <a:xfrm>
            <a:off x="808200" y="4149720"/>
            <a:ext cx="8508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" descr=""/>
          <p:cNvPicPr/>
          <p:nvPr/>
        </p:nvPicPr>
        <p:blipFill>
          <a:blip r:embed="rId2"/>
          <a:stretch/>
        </p:blipFill>
        <p:spPr>
          <a:xfrm>
            <a:off x="488880" y="1557360"/>
            <a:ext cx="8917200" cy="2016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" descr=""/>
          <p:cNvPicPr/>
          <p:nvPr/>
        </p:nvPicPr>
        <p:blipFill>
          <a:blip r:embed="rId3"/>
          <a:stretch/>
        </p:blipFill>
        <p:spPr>
          <a:xfrm>
            <a:off x="631800" y="3429000"/>
            <a:ext cx="8583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488880" y="1484280"/>
            <a:ext cx="8971200" cy="1943280"/>
          </a:xfrm>
          <a:prstGeom prst="rect">
            <a:avLst/>
          </a:prstGeom>
          <a:ln w="0">
            <a:noFill/>
          </a:ln>
        </p:spPr>
      </p:pic>
      <p:pic>
        <p:nvPicPr>
          <p:cNvPr id="685" name="Title 1" descr=""/>
          <p:cNvPicPr/>
          <p:nvPr/>
        </p:nvPicPr>
        <p:blipFill>
          <a:blip r:embed="rId2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5" descr=""/>
          <p:cNvPicPr/>
          <p:nvPr/>
        </p:nvPicPr>
        <p:blipFill>
          <a:blip r:embed="rId3"/>
          <a:stretch/>
        </p:blipFill>
        <p:spPr>
          <a:xfrm>
            <a:off x="312840" y="3357720"/>
            <a:ext cx="92120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14:26:57Z</dcterms:created>
  <dc:creator>tino cortesi</dc:creator>
  <dc:description/>
  <dc:language>en-US</dc:language>
  <cp:lastModifiedBy>Laura Semini</cp:lastModifiedBy>
  <cp:lastPrinted>2016-05-04T08:33:58Z</cp:lastPrinted>
  <dcterms:modified xsi:type="dcterms:W3CDTF">2016-05-04T08:34:57Z</dcterms:modified>
  <cp:revision>456</cp:revision>
  <dc:subject>Cap 1</dc:subject>
  <dc:title>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dsi.unive.it/~cortesi/SE/</vt:lpwstr>
  </property>
  <property fmtid="{D5CDD505-2E9C-101B-9397-08002B2CF9AE}" pid="9" name="LinkColor">
    <vt:r8>16711782</vt:r8>
  </property>
  <property fmtid="{D5CDD505-2E9C-101B-9397-08002B2CF9AE}" pid="10" name="MailAddress">
    <vt:lpwstr>ingsw@dsi.unive.it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Documenti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